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E5D-8BF7-48A8-A219-95576DDC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003-F8A9-4839-9056-49F2364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CA8-20A5-4C05-9828-8C9F7E43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1A7-A45F-4F56-B221-BE855D97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8A1-1E14-4D76-81C4-906500E4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EF96-07E7-4958-B2C8-B0AF37C8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60A3-D27E-4B35-B68F-590DD39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DF8-EC2E-43E3-84C3-6C4A49A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B40B-D07B-45A9-8F5F-19004A73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5C8-E99B-47EC-8F11-ED8E2BA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B7CB-71DD-4563-B5C2-0456FAA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F5E-CBFD-4713-BA7B-90716550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4221-301B-4495-8155-7BBBFEC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5926-9387-45C7-AD44-E06F0D1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992F-13E1-443D-B899-23E1810F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212A-7333-4656-8F59-E741AAD3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C0B2-E58E-493A-8EEB-F224322F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D4F-DAAD-4B62-8DA8-EDF050A1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AE5-101A-43F6-8D20-0F526068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2B1-A185-4054-8D5C-D608933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114-5531-45A3-8935-917AF6B2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C2A-74EC-4B0B-8577-9E930C4A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833-D91F-4CBF-97F5-7099713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445-ED6F-4DCE-8BEE-9CB5C22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3797-DB9B-45E9-B36A-F4038B8B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F57D-CFF6-43EC-ADE1-9E24274B9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McREL Leadership</a:t>
            </a:r>
            <a:br>
              <a:rPr sz="5400"/>
            </a:b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Initiative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Rockland Administrato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LF Ret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30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ok Lo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/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s and Belie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of C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urriculum, Instruction, Assessment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 in 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t 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 st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65640" y="45720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430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ship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“Top 7”</a:t>
            </a:r>
            <a:br>
              <a:rPr sz="20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(ranked order)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ly Correlated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of 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ectual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/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s/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Second-Order Change</a:t>
            </a:r>
            <a:br>
              <a:rPr sz="3200"/>
            </a:b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Negatively Correlated Responsibilities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520" y="2057040"/>
            <a:ext cx="44956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eadership in North Rockla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dentifiable characteristics for building- and District-level sta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for NRCSD to become a high-reliability organization, we need to define and reach consensus on these characteristics, and we must put in place procedures to allow for second-order change to hap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eadership in North Rockla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minstrator Leadership Caucus will work to assist all building-level leaders to promote change and reliability in their assignments, and will also work with District-level leaders to identify their roles to promote second-order change in our Distri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ome Defini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: First- or Second-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takeholders perceive change 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 extension of the past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break from the p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t with prevai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sistent with preva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norm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norm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gruent with pers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sistent with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ly learned u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ing new knowledg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ing knowledge and skill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Im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I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Defini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gh-Reliability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Os operate in a context where failures are simply too significant to be tol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resilient, refusing to be discouraged by errors and mist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seek an ideal of perfection but never expect to achieve it…They deliver reliability but never take it for gra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ve by the book but refuse to die by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xamples of HRO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 traffic control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clear 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ic power g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 Navy aircraft carri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ink-pair-shar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tart by asking some tough question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#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North Rockland a high-reliability organiz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specific and share examples to support your posi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ink-pair-shar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#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looked at the instructional implications of SmartBoards throughout the past year. As a District (or at the building level), did this constitute first- or second- order change? Why and how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eadership Responsibiliti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REL research has identified 21 characteristics of leadership that impact high-reliability organ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21 were associated with first-order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/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s and Belie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of C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urriculum, Instruction, Assessment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 in 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t 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 st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5640" y="45720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430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ship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able discuss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ntify the 7 characteristics your group agrees are the most important for second-order change, and come to agreement on their defini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5:18Z</dcterms:created>
  <dc:creator>North Rockland Schools</dc:creator>
  <dc:description/>
  <dc:language>en-US</dc:language>
  <cp:lastModifiedBy>North Rockland High School</cp:lastModifiedBy>
  <dcterms:modified xsi:type="dcterms:W3CDTF">2010-07-06T17:36:21Z</dcterms:modified>
  <cp:revision>4</cp:revision>
  <dc:subject/>
  <dc:title>McREL Leadership Initiative</dc:title>
</cp:coreProperties>
</file>